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220840" y="766440"/>
            <a:ext cx="26575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K Thievery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5433-6BFD-4CC2-89A7-490302A63F1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220840" y="766800"/>
            <a:ext cx="2657520" cy="38386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5024-94F1-46A8-BF7D-D0CA9E789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A0B7-7ECC-402C-B68C-21777829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BB70-732D-4DA2-90B5-A628D560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6BB7-EAC2-4806-8BF1-91E2E9A0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2FC-E083-4B7C-A504-92C40F20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4436-62BF-4A97-A27D-6AE929FD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8253-313B-424F-A14E-78A01A8A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F5FB-3D18-42CC-B2EF-D775FD5D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B91A-6942-4F18-A079-B361B8CE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5484-A8A8-4788-BD0C-0C043F4A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4A7C-46C1-46BF-960F-F282D852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9E52-5FAD-4CAC-8602-F3C6B575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FCD-B022-4B0E-8108-B99DB815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1287-AD69-4966-AD48-F53E19C4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A65A-D8FE-4568-8B95-0D72397B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871A-DBF8-41EA-8361-06185538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FC07-8775-414E-A187-5AC79546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83B3-B843-403B-B295-7736EE86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FEF1-19E5-43E9-9B79-D4EC6414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DE5-B747-4044-81A9-663F71E4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C2D-A84B-4576-BB65-85A33B03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2ED6-92FD-4E89-965B-6A8F648C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A60-79B7-4282-B5FC-2D106639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BE5-30D1-4C14-A883-EE8E08BE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F738-C894-41BD-99C0-4FAC401A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K Thiever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DK Thiev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DK Thieve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16C3-3C6E-43B0-AA92-C64DF7F7C3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K Thiever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DK Thiev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DK Thieve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DK Thieve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K Thieve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FCEF-4523-4D24-845D-074D595FF186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afontaine.net/lesFables/afficheFable.php?id=2#Slide 1" TargetMode="External"/><Relationship Id="rId2" Type="http://schemas.openxmlformats.org/officeDocument/2006/relationships/hyperlink" Target="http://www.lafontaine.net/lesFables/afficheFable.php?id=2#Slide 2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880920"/>
            <a:ext cx="5786640" cy="166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 </a:t>
            </a: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FÁBULAS</a:t>
            </a:r>
            <a:br>
              <a:rPr sz="4400"/>
            </a:b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E ANIMAIS QUE FALAN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71360" y="5833800"/>
            <a:ext cx="480060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Son relatos moi breves nos que os animais falan, que rematan cunha reflexión de carácter didáctico ou moralizante. Próximo do xénero está o </a:t>
            </a:r>
            <a:r>
              <a:rPr b="1" i="1" lang="gl-ES" sz="2800" spc="-1" strike="noStrike">
                <a:solidFill>
                  <a:srgbClr val="000000"/>
                </a:solidFill>
                <a:latin typeface="DK Thievery"/>
              </a:rPr>
              <a:t>apólogo</a:t>
            </a: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, unha narración con animais na que tamén pode haber presenza de personaxes humanos.</a:t>
            </a:r>
            <a:endParaRPr b="0" lang="en-US" sz="28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91" name="Picture 17" descr="esopo"/>
          <p:cNvPicPr/>
          <p:nvPr/>
        </p:nvPicPr>
        <p:blipFill>
          <a:blip r:embed="rId1"/>
          <a:srcRect l="6160" t="47040" r="6160" b="5411"/>
          <a:stretch/>
        </p:blipFill>
        <p:spPr>
          <a:xfrm>
            <a:off x="1285920" y="2830680"/>
            <a:ext cx="4357800" cy="2646360"/>
          </a:xfrm>
          <a:prstGeom prst="rect">
            <a:avLst/>
          </a:prstGeom>
          <a:ln w="0">
            <a:noFill/>
          </a:ln>
        </p:spPr>
      </p:pic>
      <p:sp>
        <p:nvSpPr>
          <p:cNvPr id="92" name="6 Marcador de número de diapositiva"/>
          <p:cNvSpPr/>
          <p:nvPr/>
        </p:nvSpPr>
        <p:spPr>
          <a:xfrm>
            <a:off x="4915080" y="911232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01B5-0EE4-4F39-994E-E270D39D3E4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1100160"/>
            <a:ext cx="61722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Le Corbeau et le Renard</a:t>
            </a:r>
            <a:br>
              <a:rPr sz="4000"/>
            </a:br>
            <a:r>
              <a:rPr b="1" lang="gl-ES" sz="3600" spc="-1" strike="noStrike">
                <a:solidFill>
                  <a:srgbClr val="ff0000"/>
                </a:solidFill>
                <a:latin typeface="DK Thievery"/>
              </a:rPr>
              <a:t>La Fontaine</a:t>
            </a:r>
            <a:endParaRPr b="0" lang="en-US" sz="36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642840" y="4381560"/>
            <a:ext cx="3071880" cy="36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Mestre Corvo, </a:t>
            </a:r>
            <a:r>
              <a:rPr b="0" lang="gl-ES" sz="1200" spc="-1" strike="noStrike">
                <a:solidFill>
                  <a:srgbClr val="7f7f7f"/>
                </a:solidFill>
                <a:latin typeface="Arial"/>
                <a:ea typeface="Arial"/>
              </a:rPr>
              <a:t>nunha</a:t>
            </a: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lang="gl-ES" sz="1200" spc="-1" strike="noStrike">
                <a:solidFill>
                  <a:srgbClr val="7f7f7f"/>
                </a:solidFill>
                <a:latin typeface="Arial"/>
                <a:ea typeface="Arial"/>
              </a:rPr>
              <a:t>árbore</a:t>
            </a: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 pousado,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No bico aseguraba un belo queixo.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Mestra Raposa, atraída pelo cheiro,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f7f7f"/>
                </a:solidFill>
                <a:latin typeface="Arial"/>
                <a:ea typeface="Arial"/>
              </a:rPr>
              <a:t>Así lle dixo en ton entusiasmado: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-Ola! Bo dia teña o señor Corvo,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Tan lindo é: unha beleza alada!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Fóra de brincadeiras, se o seu canto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Tiver das súas plumas o encanto,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Será con lei o Rei da Bicharada.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Ouvindo tales verbas, que feliz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O Corvo fica; e a voz quer mostrar: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Abre o bico e alá vai o queixo pelo ar!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Apáñao a Raposa e di: -Señor,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Aprenda que o vaidoso se rebaixa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f7f7f"/>
                </a:solidFill>
                <a:latin typeface="Arial"/>
                <a:ea typeface="Arial"/>
              </a:rPr>
              <a:t>Fronte a quen o quere entrampar.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f7f7f"/>
                </a:solidFill>
                <a:latin typeface="Arial"/>
                <a:ea typeface="Arial"/>
              </a:rPr>
              <a:t>Esta lección vale un queixo, non acha?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O Corvo, avergoñado, vendo o queixo fuxir,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7f7f7f"/>
                </a:solidFill>
                <a:latin typeface="Arial"/>
                <a:ea typeface="Arial"/>
              </a:rPr>
              <a:t>Xurou que tarde noutra se deixaría ir. 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142920" y="4376880"/>
            <a:ext cx="385776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Maître corbeau, sur un arbre perché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Tenait en son bec un fromage. 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Maître renard par l'odeur 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alléché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Lui tint à peu près ce langage: 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Et bonjour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sieur du Corbea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Que vous êtes joli! que vous me semblez beau! 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Sans mentir, si votre ramage 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 rapport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 à votre plumage,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Vous êtes le 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hénix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 des hôtes de ces bois»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A ces mots le corbeau ne se sent pas de joie;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Et pour montrer sa belle voix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Il ouvre un large bec laisse tomber sa proie. 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Le renard s'en saisit et dit: "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 bon Monsieur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Apprenez que tout flatteur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Vit aux dépens de celui qui l'écoute: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Cette leçon vaut bien un fromage sans doute."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Le corbeau 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nteux et confu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Jura mais un peu tard , qu'on ne l‘Y prendrait plus. </a:t>
            </a:r>
            <a:endParaRPr b="0" lang="en-US" sz="12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132" name="Picture 8" descr="7,2corvo+e+raposa"/>
          <p:cNvPicPr/>
          <p:nvPr/>
        </p:nvPicPr>
        <p:blipFill>
          <a:blip r:embed="rId3"/>
          <a:stretch/>
        </p:blipFill>
        <p:spPr>
          <a:xfrm>
            <a:off x="2919240" y="2238480"/>
            <a:ext cx="1295640" cy="1857240"/>
          </a:xfrm>
          <a:prstGeom prst="rect">
            <a:avLst/>
          </a:prstGeom>
          <a:ln w="0">
            <a:noFill/>
          </a:ln>
        </p:spPr>
      </p:pic>
      <p:sp>
        <p:nvSpPr>
          <p:cNvPr id="133" name="5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A3B3-62F0-4A74-90E6-613A78797DD4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2960" y="666720"/>
            <a:ext cx="54007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La zorra y las uvas</a:t>
            </a:r>
            <a:br>
              <a:rPr sz="4000"/>
            </a:br>
            <a:r>
              <a:rPr b="1" lang="gl-ES" sz="3200" spc="-1" strike="noStrike">
                <a:solidFill>
                  <a:srgbClr val="ff0000"/>
                </a:solidFill>
                <a:latin typeface="DK Thievery"/>
              </a:rPr>
              <a:t>Félix María de Samaniego</a:t>
            </a:r>
            <a:endParaRPr b="0" lang="en-US" sz="32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00120" y="4738320"/>
            <a:ext cx="4857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voz común que a más del mediodía,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ayunas la Zorra iba cazando;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Halla una parra, quédase mirando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e la alta vid el fruto que pendía.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nsábala mil ansias y congojas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alcanzar a las uvas con la garra,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l mostrar a sus dientes la alta parra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egros racimos entre verdes hojas.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iró, saltó y anduvo en probaduras,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ero vio el imposible ya de Fijo.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tonces fue cuando la Zorra dijo: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«No las quiero comer. No están maduras.»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por eso te muestres impaciente,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 te se frustra, Fabio, algún intento: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plica bien el cuento, Y di: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están maduras, frescamente.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136" name="Picture 7" descr="ANd9GcTjWM4dgvQUwSctP4oAJu_h1_OqymzG_ORU4s7Kw25QX57b2AKX_w"/>
          <p:cNvPicPr/>
          <p:nvPr/>
        </p:nvPicPr>
        <p:blipFill>
          <a:blip r:embed="rId1"/>
          <a:stretch/>
        </p:blipFill>
        <p:spPr>
          <a:xfrm>
            <a:off x="2357280" y="2238480"/>
            <a:ext cx="1857600" cy="2300040"/>
          </a:xfrm>
          <a:prstGeom prst="rect">
            <a:avLst/>
          </a:prstGeom>
          <a:ln w="0">
            <a:noFill/>
          </a:ln>
        </p:spPr>
      </p:pic>
      <p:sp>
        <p:nvSpPr>
          <p:cNvPr id="137" name="4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E9DA-734F-4733-B85C-5913056007FE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00" y="116676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Tan vello coma a literatura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14240" y="5452560"/>
            <a:ext cx="55008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A fábula é un xénero cultivado desde a Antigüidade, pois atopáronse relatos de animais nas táboas de arxila mesopotámicas e foron precisamente gregos e romanos os que forneceron o material para as diversas compilacións e versións que se realizaron ao longo da historia da literatura. </a:t>
            </a:r>
            <a:endParaRPr b="0" lang="en-US" sz="28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3276720" y="4788000"/>
            <a:ext cx="304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3276720" y="4788000"/>
            <a:ext cx="304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ANd9GcQcXl22hUq5-aln_I10O8xx9NsCOJLXIYxaX0vQNiHj3e2TLIGI2g"/>
          <p:cNvPicPr/>
          <p:nvPr/>
        </p:nvPicPr>
        <p:blipFill>
          <a:blip r:embed="rId1"/>
          <a:stretch/>
        </p:blipFill>
        <p:spPr>
          <a:xfrm>
            <a:off x="1571760" y="2822400"/>
            <a:ext cx="4011480" cy="2487960"/>
          </a:xfrm>
          <a:prstGeom prst="rect">
            <a:avLst/>
          </a:prstGeom>
          <a:ln w="0">
            <a:noFill/>
          </a:ln>
        </p:spPr>
      </p:pic>
      <p:sp>
        <p:nvSpPr>
          <p:cNvPr id="98" name="8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8B14-9F0C-431B-AC72-134A2E6A3E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1687320"/>
            <a:ext cx="6172200" cy="112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DK Thievery"/>
              </a:rPr>
              <a:t>Os primeiros autores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2960" y="5810400"/>
            <a:ext cx="55008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800" spc="-1" strike="noStrike">
                <a:solidFill>
                  <a:srgbClr val="ff0000"/>
                </a:solidFill>
                <a:latin typeface="DK Thievery"/>
              </a:rPr>
              <a:t>Hesíodo</a:t>
            </a: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 inclúe en “</a:t>
            </a:r>
            <a:r>
              <a:rPr b="1" lang="gl-ES" sz="2800" spc="-1" strike="noStrike">
                <a:solidFill>
                  <a:srgbClr val="3c8c93"/>
                </a:solidFill>
                <a:latin typeface="DK Thievery"/>
              </a:rPr>
              <a:t>Os traballos e os días</a:t>
            </a: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” a fábula do reiseñor, pero é </a:t>
            </a:r>
            <a:r>
              <a:rPr b="1" lang="gl-ES" sz="2800" spc="-1" strike="noStrike">
                <a:solidFill>
                  <a:srgbClr val="ff0000"/>
                </a:solidFill>
                <a:latin typeface="DK Thievery"/>
              </a:rPr>
              <a:t>Esopo</a:t>
            </a: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 o fabulista da Antigüidade por excelencia; </a:t>
            </a:r>
            <a:r>
              <a:rPr b="1" lang="gl-ES" sz="2800" spc="-1" strike="noStrike">
                <a:solidFill>
                  <a:srgbClr val="ff0000"/>
                </a:solidFill>
                <a:latin typeface="DK Thievery"/>
              </a:rPr>
              <a:t>Horacio, Fedro </a:t>
            </a: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e</a:t>
            </a:r>
            <a:r>
              <a:rPr b="1" lang="gl-ES" sz="2800" spc="-1" strike="noStrike">
                <a:solidFill>
                  <a:srgbClr val="ff0000"/>
                </a:solidFill>
                <a:latin typeface="DK Thievery"/>
              </a:rPr>
              <a:t> Aviano </a:t>
            </a:r>
            <a:r>
              <a:rPr b="1" lang="gl-ES" sz="2800" spc="-1" strike="noStrike">
                <a:solidFill>
                  <a:srgbClr val="000000"/>
                </a:solidFill>
                <a:latin typeface="DK Thievery"/>
              </a:rPr>
              <a:t>en Roma asimilaron e aumentaron o acervo grego. </a:t>
            </a:r>
            <a:endParaRPr b="0" lang="en-US" sz="28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101" name="Picture 16" descr="ANd9GcS2fRSnjLRSyHVoW6hklIGM666CjG9f77xI5qIKRYt_bHAwMbd6"/>
          <p:cNvPicPr/>
          <p:nvPr/>
        </p:nvPicPr>
        <p:blipFill>
          <a:blip r:embed="rId1"/>
          <a:srcRect l="4252" t="4637" r="340" b="11222"/>
          <a:stretch/>
        </p:blipFill>
        <p:spPr>
          <a:xfrm>
            <a:off x="1336680" y="2897280"/>
            <a:ext cx="4021200" cy="2446200"/>
          </a:xfrm>
          <a:prstGeom prst="rect">
            <a:avLst/>
          </a:prstGeom>
          <a:ln w="0">
            <a:noFill/>
          </a:ln>
        </p:spPr>
      </p:pic>
      <p:sp>
        <p:nvSpPr>
          <p:cNvPr id="102" name="6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C5D5-9E6C-4B10-9A7E-EB0A0BEBC12E}" type="slidenum">
              <a:rPr b="1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1228320"/>
            <a:ext cx="6172200" cy="14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Fabulistas medievais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7560" y="5969160"/>
            <a:ext cx="573912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ff0000"/>
                </a:solidFill>
                <a:latin typeface="DK Thievery"/>
              </a:rPr>
              <a:t>Nivard de Gand, María de Francia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, e o </a:t>
            </a:r>
            <a:r>
              <a:rPr b="1" lang="gl-ES" sz="2400" spc="-1" strike="noStrike">
                <a:solidFill>
                  <a:srgbClr val="3c8c93"/>
                </a:solidFill>
                <a:latin typeface="DK Thievery"/>
              </a:rPr>
              <a:t>Roman de Renart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, atribuído á autoría da clerecía anónima, encheron o período, no que se asiste ademais a un enriquecemento mercé ás achegas dunha tradición de orixe india (Hitopadesa Pancatantra) vehiculada a través de transmisores xudaicos ou árabes pola vía hispánica. 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105" name="Picture 7" descr="08_03_bes"/>
          <p:cNvPicPr/>
          <p:nvPr/>
        </p:nvPicPr>
        <p:blipFill>
          <a:blip r:embed="rId1"/>
          <a:stretch/>
        </p:blipFill>
        <p:spPr>
          <a:xfrm>
            <a:off x="2216160" y="2523960"/>
            <a:ext cx="2732040" cy="3194280"/>
          </a:xfrm>
          <a:prstGeom prst="rect">
            <a:avLst/>
          </a:prstGeom>
          <a:ln w="0">
            <a:noFill/>
          </a:ln>
        </p:spPr>
      </p:pic>
      <p:sp>
        <p:nvSpPr>
          <p:cNvPr id="106" name="6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C2BA-607D-42E8-8584-CF202EA20A3B}" type="slidenum">
              <a:rPr b="1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130176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Do Renacemento ao XVIII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5880" y="5522400"/>
            <a:ext cx="5286240" cy="25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O </a:t>
            </a:r>
            <a:r>
              <a:rPr b="1" lang="gl-ES" sz="2400" spc="-1" strike="noStrike">
                <a:solidFill>
                  <a:srgbClr val="ff0000"/>
                </a:solidFill>
                <a:latin typeface="DK Thievery"/>
              </a:rPr>
              <a:t>propio Leonardo da Vinci 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escribiu un libro de fábulas, ao igual que moitos outros humanistas, e o xénero inspirou outro de enorme éxito no XVI e no XVII, o dos “emblemas”, aínda que o que goza de maior nota no período será o francés </a:t>
            </a:r>
            <a:r>
              <a:rPr b="1" lang="gl-ES" sz="2400" spc="-1" strike="noStrike">
                <a:solidFill>
                  <a:srgbClr val="ff0000"/>
                </a:solidFill>
                <a:latin typeface="DK Thievery"/>
              </a:rPr>
              <a:t>La Fontaine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109" name="Picture 14" descr="ANd9GcTqsinjz-tVAEpWwggcHvm4Pu7_5O_I0XrUushAqUtJviizMSn2Dmy5myzixA"/>
          <p:cNvPicPr/>
          <p:nvPr/>
        </p:nvPicPr>
        <p:blipFill>
          <a:blip r:embed="rId1"/>
          <a:stretch/>
        </p:blipFill>
        <p:spPr>
          <a:xfrm>
            <a:off x="1500120" y="2738520"/>
            <a:ext cx="3873600" cy="2409840"/>
          </a:xfrm>
          <a:prstGeom prst="rect">
            <a:avLst/>
          </a:prstGeom>
          <a:ln w="0">
            <a:noFill/>
          </a:ln>
        </p:spPr>
      </p:pic>
      <p:sp>
        <p:nvSpPr>
          <p:cNvPr id="110" name="6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4DDF-526F-4CD8-9A66-1A325A9B86A2}" type="slidenum">
              <a:rPr b="1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9680" y="102384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Fábulas dezaoitescas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5524200"/>
            <a:ext cx="464328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3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3000" spc="-1" strike="noStrike">
                <a:solidFill>
                  <a:srgbClr val="ff0000"/>
                </a:solidFill>
                <a:latin typeface="DK Thievery"/>
              </a:rPr>
              <a:t>Tomás de Iriarte, John Gay </a:t>
            </a:r>
            <a:r>
              <a:rPr b="1" lang="gl-ES" sz="3000" spc="-1" strike="noStrike">
                <a:solidFill>
                  <a:srgbClr val="000000"/>
                </a:solidFill>
                <a:latin typeface="DK Thievery"/>
              </a:rPr>
              <a:t>ou</a:t>
            </a:r>
            <a:r>
              <a:rPr b="1" lang="gl-ES" sz="3000" spc="-1" strike="noStrike">
                <a:solidFill>
                  <a:srgbClr val="ff0000"/>
                </a:solidFill>
                <a:latin typeface="DK Thievery"/>
              </a:rPr>
              <a:t> Felix María de Samaniego </a:t>
            </a:r>
            <a:r>
              <a:rPr b="1" lang="gl-ES" sz="3000" spc="-1" strike="noStrike">
                <a:solidFill>
                  <a:srgbClr val="000000"/>
                </a:solidFill>
                <a:latin typeface="DK Thievery"/>
              </a:rPr>
              <a:t>cultivan o xénero en Europa que, nesta altura, cobra un novo vigor ao socaire da revisitación do mundo antigo que representa o Neoclásico. </a:t>
            </a:r>
            <a:endParaRPr b="0" lang="en-US" sz="30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113" name="Picture 4" descr="Imagen3"/>
          <p:cNvPicPr/>
          <p:nvPr/>
        </p:nvPicPr>
        <p:blipFill>
          <a:blip r:embed="rId1"/>
          <a:stretch/>
        </p:blipFill>
        <p:spPr>
          <a:xfrm>
            <a:off x="2428920" y="2367000"/>
            <a:ext cx="2357280" cy="2841480"/>
          </a:xfrm>
          <a:prstGeom prst="rect">
            <a:avLst/>
          </a:prstGeom>
          <a:ln w="0">
            <a:noFill/>
          </a:ln>
        </p:spPr>
      </p:pic>
      <p:sp>
        <p:nvSpPr>
          <p:cNvPr id="114" name="6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3BE6-D46C-46B5-8807-910E4534CDD6}" type="slidenum">
              <a:rPr b="1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400" y="1309320"/>
            <a:ext cx="61722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400" spc="-1" strike="noStrike">
                <a:solidFill>
                  <a:srgbClr val="000000"/>
                </a:solidFill>
                <a:latin typeface="DK Thievery"/>
              </a:rPr>
              <a:t>O XIX e o XX </a:t>
            </a:r>
            <a:endParaRPr b="0" lang="en-US" sz="44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57160" y="5095800"/>
            <a:ext cx="5214960" cy="37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DK Thievery"/>
            </a:endParaRPr>
          </a:p>
          <a:p>
            <a:pPr marL="308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DK Thievery"/>
              </a:rPr>
              <a:t>	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O mundo contemporáneo entrou na fábula, que a utiliza para a sátira política (emprego do que xa había algúns antecedentes) ou permite a incursión no xénero a máquinas e obxectos que veñen roubarlle parte do protagonismo aos animais. </a:t>
            </a:r>
            <a:r>
              <a:rPr b="1" lang="gl-ES" sz="2400" spc="-1" strike="noStrike">
                <a:solidFill>
                  <a:srgbClr val="ff0000"/>
                </a:solidFill>
                <a:latin typeface="DK Thievery"/>
              </a:rPr>
              <a:t>Beatrix Potter, Basterra 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e </a:t>
            </a:r>
            <a:r>
              <a:rPr b="1" lang="gl-ES" sz="2400" spc="-1" strike="noStrike">
                <a:solidFill>
                  <a:srgbClr val="ff0000"/>
                </a:solidFill>
                <a:latin typeface="DK Thievery"/>
              </a:rPr>
              <a:t>Anouilh </a:t>
            </a:r>
            <a:r>
              <a:rPr b="1" lang="gl-ES" sz="2400" spc="-1" strike="noStrike">
                <a:solidFill>
                  <a:srgbClr val="000000"/>
                </a:solidFill>
                <a:latin typeface="DK Thievery"/>
              </a:rPr>
              <a:t>continúan e revolucionan o xénero.</a:t>
            </a:r>
            <a:endParaRPr b="0" lang="en-US" sz="2400" spc="-1" strike="noStrike">
              <a:solidFill>
                <a:srgbClr val="000000"/>
              </a:solidFill>
              <a:latin typeface="DK Thievery"/>
            </a:endParaRPr>
          </a:p>
        </p:txBody>
      </p:sp>
      <p:pic>
        <p:nvPicPr>
          <p:cNvPr id="117" name="Picture 10" descr="Mellon_Collieinside"/>
          <p:cNvPicPr/>
          <p:nvPr/>
        </p:nvPicPr>
        <p:blipFill>
          <a:blip r:embed="rId1"/>
          <a:stretch/>
        </p:blipFill>
        <p:spPr>
          <a:xfrm>
            <a:off x="2214720" y="2238480"/>
            <a:ext cx="2651040" cy="2820960"/>
          </a:xfrm>
          <a:prstGeom prst="rect">
            <a:avLst/>
          </a:prstGeom>
          <a:ln w="0">
            <a:noFill/>
          </a:ln>
        </p:spPr>
      </p:pic>
      <p:sp>
        <p:nvSpPr>
          <p:cNvPr id="118" name="6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E599-1AD7-413B-AF87-A7FF8046D68F}" type="slidenum">
              <a:rPr b="1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Aesops_Fables_Monkey_And_Camel_By_Milo_Winter"/>
          <p:cNvPicPr/>
          <p:nvPr/>
        </p:nvPicPr>
        <p:blipFill>
          <a:blip r:embed="rId1">
            <a:lum contrast="66000"/>
          </a:blip>
          <a:stretch/>
        </p:blipFill>
        <p:spPr>
          <a:xfrm>
            <a:off x="2428920" y="2666880"/>
            <a:ext cx="1917720" cy="2000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9720" y="595440"/>
            <a:ext cx="4714920" cy="24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000000"/>
                </a:solidFill>
                <a:latin typeface="DK Thievery"/>
              </a:rPr>
              <a:t>A asemblea dos animais</a:t>
            </a:r>
            <a:br>
              <a:rPr sz="4000"/>
            </a:br>
            <a:r>
              <a:rPr b="1" lang="gl-ES" sz="3600" spc="-1" strike="noStrike">
                <a:solidFill>
                  <a:srgbClr val="ff0000"/>
                </a:solidFill>
                <a:latin typeface="DK Thievery"/>
              </a:rPr>
              <a:t>Esopo</a:t>
            </a:r>
            <a:endParaRPr b="0" lang="en-US" sz="36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71360" y="4667400"/>
            <a:ext cx="48574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Había un león que non era nin noxento, nin cru, nin bravo, mais de trato amábel e moi xusto. Chegou a rei.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Baixo o seu reinado celebrouse unha asemblea para os animais desculpárense e ofrecer satisfacción uns aos outros : o lobo deulle a paz ao año, o tigre ao cervo e a raposa á lebre.  Daquela, a lebre dixo: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-Levo esperando este día toda a miña vida, para ver como os febles somos respectados con xustiza polos fortes.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E botouse a correr...  e correu e correu todo o que puido. 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Cando nun estado se practica a xustiza, os febles poden vivir tranquilos, pero non deben confiarse.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542E-8799-4B59-91B9-9BA39C1D555F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9160" y="880560"/>
            <a:ext cx="4049640" cy="13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a-VA" sz="4000" spc="-1" strike="noStrike">
                <a:solidFill>
                  <a:srgbClr val="000000"/>
                </a:solidFill>
                <a:latin typeface="DK Thievery"/>
              </a:rPr>
              <a:t>Asinus ad lyram</a:t>
            </a:r>
            <a:br>
              <a:rPr sz="4000"/>
            </a:br>
            <a:r>
              <a:rPr b="1" lang="es-ES" sz="4000" spc="-1" strike="noStrike">
                <a:solidFill>
                  <a:srgbClr val="ff0000"/>
                </a:solidFill>
                <a:latin typeface="DK Thievery"/>
              </a:rPr>
              <a:t>Fedro</a:t>
            </a:r>
            <a:endParaRPr b="0" lang="en-US" sz="40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9720" y="4452480"/>
            <a:ext cx="5286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a-VA" sz="1800" spc="-1" strike="noStrike">
                <a:solidFill>
                  <a:srgbClr val="000000"/>
                </a:solidFill>
                <a:latin typeface="Arial"/>
                <a:ea typeface="Arial"/>
              </a:rPr>
              <a:t>Quomodo ingenia saepe calamitate intercidant.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a-VA" sz="1800" spc="-1" strike="noStrike">
                <a:solidFill>
                  <a:srgbClr val="000000"/>
                </a:solidFill>
                <a:latin typeface="Arial"/>
                <a:ea typeface="Arial"/>
              </a:rPr>
              <a:t>Asinus iacentem vidit in prato lyram.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a-VA" sz="1800" spc="-1" strike="noStrike">
                <a:solidFill>
                  <a:srgbClr val="000000"/>
                </a:solidFill>
                <a:latin typeface="Arial"/>
                <a:ea typeface="Arial"/>
              </a:rPr>
              <a:t>Accessit et temptavit chordas ungula.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a-VA" sz="1800" spc="-1" strike="noStrike">
                <a:solidFill>
                  <a:srgbClr val="000000"/>
                </a:solidFill>
                <a:latin typeface="Arial"/>
                <a:ea typeface="Arial"/>
              </a:rPr>
              <a:t>Sonuere tactae. "Bella res est mehercules;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a-VA" sz="1800" spc="-1" strike="noStrike">
                <a:solidFill>
                  <a:srgbClr val="000000"/>
                </a:solidFill>
                <a:latin typeface="Arial"/>
                <a:ea typeface="Arial"/>
              </a:rPr>
              <a:t>male cessit, ego" ait "artis quia sum nescius.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a-VA" sz="1800" spc="-1" strike="noStrike">
                <a:solidFill>
                  <a:srgbClr val="000000"/>
                </a:solidFill>
                <a:latin typeface="Arial"/>
                <a:ea typeface="Arial"/>
              </a:rPr>
              <a:t>Si reperisset aliquis hanc prudentior,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a-VA" sz="1800" spc="-1" strike="noStrike">
                <a:solidFill>
                  <a:srgbClr val="000000"/>
                </a:solidFill>
                <a:latin typeface="Arial"/>
                <a:ea typeface="Arial"/>
              </a:rPr>
              <a:t>divinis aures oblectasset cantibus."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a-VA" sz="1800" spc="-1" strike="noStrike">
                <a:solidFill>
                  <a:srgbClr val="000000"/>
                </a:solidFill>
                <a:latin typeface="Arial"/>
                <a:ea typeface="Arial"/>
              </a:rPr>
              <a:t>Sic saepe ingenia calamitate intercidunt.</a:t>
            </a: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K Thievery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571760" y="7047000"/>
            <a:ext cx="407196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7f7f7f"/>
                </a:solidFill>
                <a:latin typeface="Arial"/>
                <a:ea typeface="Arial"/>
              </a:rPr>
              <a:t>O ASNO E A L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7f7f7f"/>
                </a:solidFill>
                <a:latin typeface="Arial"/>
                <a:ea typeface="Arial"/>
              </a:rPr>
              <a:t>De qué modo os enxeños a miúdo se perden por unha desgra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7f7f7f"/>
                </a:solidFill>
                <a:latin typeface="Arial"/>
                <a:ea typeface="Arial"/>
              </a:rPr>
              <a:t>Un burro viu unha lira tirada nun prado. Achegouse e cos cascos tocou nas cordas unha e outra vez: estas soa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lang="gl-ES" sz="1200" spc="-1" strike="noStrike">
                <a:solidFill>
                  <a:srgbClr val="7f7f7f"/>
                </a:solidFill>
                <a:latin typeface="Arial"/>
                <a:ea typeface="Arial"/>
              </a:rPr>
              <a:t>"Bela cousa é; pero, por Hércules, saíume mal", dixo, "porque son ignorante da ar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7f7f7f"/>
                </a:solidFill>
                <a:latin typeface="Arial"/>
                <a:ea typeface="Arial"/>
              </a:rPr>
              <a:t>Se alguén máis hábil a tivese encontrado, deleitaríanos os ouvidos coa súa ar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7f7f7f"/>
                </a:solidFill>
                <a:latin typeface="Arial"/>
                <a:ea typeface="Arial"/>
              </a:rPr>
              <a:t>É así como, a miúdo, os enxeños pérdense pola desgra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3314880" y="4732200"/>
            <a:ext cx="228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Burro+flautista"/>
          <p:cNvPicPr/>
          <p:nvPr/>
        </p:nvPicPr>
        <p:blipFill>
          <a:blip r:embed="rId1"/>
          <a:stretch/>
        </p:blipFill>
        <p:spPr>
          <a:xfrm>
            <a:off x="2286000" y="2309760"/>
            <a:ext cx="2286000" cy="1925640"/>
          </a:xfrm>
          <a:prstGeom prst="rect">
            <a:avLst/>
          </a:prstGeom>
          <a:ln w="0">
            <a:noFill/>
          </a:ln>
        </p:spPr>
      </p:pic>
      <p:sp>
        <p:nvSpPr>
          <p:cNvPr id="128" name="6 Marcador de número de diapositiva"/>
          <p:cNvSpPr/>
          <p:nvPr/>
        </p:nvSpPr>
        <p:spPr>
          <a:xfrm>
            <a:off x="4915080" y="9020160"/>
            <a:ext cx="1600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85CD-47E0-45FF-942F-A35E945FEE96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2:10:45Z</dcterms:created>
  <dc:creator>Organizacion</dc:creator>
  <dc:description/>
  <dc:language>en-US</dc:language>
  <cp:lastModifiedBy>Usuario</cp:lastModifiedBy>
  <dcterms:modified xsi:type="dcterms:W3CDTF">2013-01-28T15:51:22Z</dcterms:modified>
  <cp:revision>13</cp:revision>
  <dc:subject/>
  <dc:title> FÁBULAS E ANIMAIS QUE FALAN</dc:title>
</cp:coreProperties>
</file>